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8.png" ContentType="image/png"/>
  <Override PartName="/ppt/media/image6.pct" ContentType="image/x-pict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69A-CED3-4384-B916-5C3A411D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09A-6259-45D7-9746-E862DC79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A0A-64A8-4F08-B00F-5C1884C4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D76-5D67-4804-BB67-CEC58C25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F09-0942-4D47-87F5-E12E7BE2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B23-7B3E-46FE-B876-07BD5D1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743-07A9-4038-B740-254EBF6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46E-B75A-47D7-8C77-F9A4EC5E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9D4-038A-4363-ABBE-F9B236D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3BF-F8B5-4D19-A69F-95286B0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0E4-8898-4AED-AEF8-091E9F2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884-C254-4B8C-A2B4-3A4E7593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6384-B8BF-47D5-A10A-EBC9F832C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shtea.com/teawhere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rs. Quinn Learned in her Research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th Grade Soci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941400" cy="119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9414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 Yu’s Advice about Drinking 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p your tea slowly and quie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ups of tea are fine, but five cups are too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add items such as ginger, orange peels, peppermint, or onions to your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must add something to your tea, salt is ok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Japanese Tea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ai was a Zen Buddhist monk who introduced the tea ceremony to Japan in 119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wrote a book, the Kitcha-Yojoki. (The Book of Tea Sani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52360" y="1981080"/>
            <a:ext cx="28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of the Japanese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remony takes place in the host’s tea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eparate room called the midsuya, the tea utensils are washed and arr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uests wait in a third room, the mach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teps to the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ts walk a path through a garden (roji) to the tea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ts enter silently through a low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urais were expected to leave their swords on the rack by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71800" y="4572000"/>
            <a:ext cx="28684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Steps to the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y entered the tea room, guests would admire the host’s decorations and te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st greeted the head guest by bowing and offering a sweet candy called kash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prepared the tea for gu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2593800"/>
            <a:ext cx="38098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Even More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receiving their tea, guests were expected to thank the h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guest always left an empty c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87880" y="1981080"/>
            <a:ext cx="292896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2114640"/>
            <a:ext cx="3809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: A Favorite Drink in Many Cou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25960" y="1981080"/>
            <a:ext cx="30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7360" y="2549520"/>
          <a:ext cx="5487840" cy="175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2549520"/>
                    <a:ext cx="548784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Leg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 leaves from a nearby bush blew into a cauldron of boiling water and Shen Nung drank it. “What a refreshing drink,” he thou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579760"/>
            <a:ext cx="38098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Leg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ian prince wanted to pray longer. He chewed tea leaves to stay awa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vorite story is how this monk cut off his eyelids to stay awake and a tea shrub grew where the lids la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10200" y="1981080"/>
            <a:ext cx="28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Tea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 is harvested from tea shrubs. Only the newest leaves at the top of the bush are pi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5333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Learn More about Processing T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tashtea.com/teawhere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o find out how tea i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nking 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panese ground tea leaves into a powder, poured boiling water over the powder, and “whisked” the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inese dipped (called “steeping”) tea leaves into hot water to brew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 in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 was so popular that Lu Yu, a Chinese scholar, wrote a boo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’a Ching, The Classic of T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book made tea even more popular in the 70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3763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’a 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ook included the history of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also explained how to properly make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3701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 Yu’s Advice about T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 leaves should only be picked on a clear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enty-four tools were needed to correctly make tea. If you don’t have all of these tools, don’t make t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for tea should come from a slow-flowing mountain 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2:33:52Z</dcterms:created>
  <dc:creator>Net Admin</dc:creator>
  <dc:description/>
  <dc:language>en-US</dc:language>
  <cp:lastModifiedBy>Net Admin</cp:lastModifiedBy>
  <dcterms:modified xsi:type="dcterms:W3CDTF">2006-04-11T19:19:15Z</dcterms:modified>
  <cp:revision>28</cp:revision>
  <dc:subject/>
  <dc:title>Tea</dc:title>
</cp:coreProperties>
</file>